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CC3-2505-4A13-AC47-A1C48FC0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2E8-3A27-4E13-A612-AA349853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B80AC-228A-4E20-8FCA-0CC02FF6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2BABB-179A-4BB0-9366-AA8D1BE8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E74E6-E707-4295-9DF4-7F5E68B2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82F20-AE9C-4234-8FD7-A0AFA490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E643E-971E-482B-8AF3-B2EEB7CE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D663B-22E9-4AA5-8CEF-FE39C8AA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9EE1F-C0F6-44FF-AD61-9B9E7ED2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D43FB-44CD-4E60-BF7C-0DEC8786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D1F72-529F-4F02-8C4A-5717E2C0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FDFB0-DAB7-416B-BC22-B13EE23E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9D3-DB80-45B0-BD76-65FE9653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FB43F-7840-48C3-8139-3BD19DCF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BBE94-0174-41ED-AC50-0F71DA78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B174D-95A6-4EFB-8A55-5A0ECB02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B031F-8B9F-440E-ACC3-1EEFA28A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D357E-6765-412A-A6E2-FFE01A0E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6B8A0-36B4-4FBB-ABC9-C2584750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4A741-D5ED-45D1-B616-F30AF3C0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25A3A-1F0B-450A-90BB-F134279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89EED-DE8D-40B1-A383-D3DFF885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FF184-84D7-494B-BC37-0F16D810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81B-6E3B-4FF9-8B2D-072280E7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D874A-5502-42CF-9AC8-9A17396C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70CD6-1D6C-4F00-99C5-2399100E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A6C5D-2B45-4320-8F53-F3DD2F12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08408-7796-4411-9253-A826CDB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6E29A-8653-4D98-95C7-A77FD7A3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DD67F-D496-4F5F-A9BD-121889FB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0870F-30E1-4526-9FD6-4FC79BA6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77AFB-18C8-4860-97C7-47ED008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E0E3B-6AC4-420D-9106-3A14DC8A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C4CF4-A41C-46C6-9BF6-269C7FC8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82AC-3BB1-4CA8-8C39-E0369BA6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23F86-13CB-44DD-8D08-6AB92577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5AE60-FAA1-472F-9AF2-470291E8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FC846-F495-48DA-A15B-D567400D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3C935-1719-43F3-8293-A03EA38F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95AF2-BEFC-4885-8369-71F3F032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CCFDB-C9D3-46E9-A7A1-4A786305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E1001-8EC4-4F9F-BFE8-DA8520D1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E73DA-6601-4BA5-8438-27D0E197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A4E0E-2663-4906-93B7-1D87FAFE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E231C-0124-4D74-9DDC-43F8C2C8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67BC-83FC-4ED3-87B3-6405F854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032D1-5F3C-47CF-94AF-D3CB44D0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149A3-4738-4D77-B751-8D3063C3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373B5-6801-4EC3-9E37-97E2B36A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5EB24-E968-455B-B3F6-D149B060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54542-E03C-4512-9F13-BC2FB5E5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6F300-06CE-47A2-AC6D-1CE4354D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52D7B-2532-4682-8ECB-899DBE6A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EEF6B-9A51-4AFC-BD5F-A2AA2DAF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9776E-C1A9-4032-9A51-13CE24CA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AF871-7014-4117-9446-FB633CE3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AD2E-0650-46A4-AAC7-EC29B012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E5BE4-7BAA-47F1-8330-C254544F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2AD6F-B28D-45D5-B673-B5E46D3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35EF9-7D59-44AE-B4F8-B9AAA818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097DD-987E-4B82-B99F-DB6DE3D2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A2378-094B-4073-9F0F-CFDB6076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38750-CB98-47BA-8468-A9358791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BCCC9-1385-4EEF-AFBE-1AC29739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CF5AA-AF85-4B54-BBFF-A00B0E66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FA6C3-CAB8-4C95-A92D-2B9797D6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A47A0-C010-406D-BD98-F9B5DD73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1C2E-46BF-4E3A-8E3F-B838613D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95BD5-AF14-4148-BB78-B3C35770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DC871-28A5-4AFF-98B2-E12BC00C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C2763-8CA9-49E2-B881-CC2FF188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02279-A8F5-43A9-855C-82978FDD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2569B-4EAD-4CF2-B4D6-05FE42F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FF05AA-672D-4133-883C-CB9AD9E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36DA6-B1EB-4514-8E42-40B7FAF3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BAA7C-74CF-402B-ABDD-E76F2133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600E1-8F8A-49C1-8197-3EAC8526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D4CC5-0BE7-4D5C-9683-01478C65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19A9-CAA7-46BB-81F8-0C760D0A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06229-F620-4C47-B3F2-0AD688BE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BCC64-77B9-4900-84FF-14450F8E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3E9D1-FEAC-4D83-A8BA-0784054A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8DB29-54ED-4AEA-823A-9E70F200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1B6AA-2E9B-43BD-85BB-CABB550D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9B848-65DF-42BD-AC4D-8F30EF58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9947D1-E3E5-4C60-BA44-813F0264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269E0-1EF5-43C6-9BAE-4AC5AD41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0A460-8CE9-46D6-B3C0-A3DA6E0D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EFD26-9C98-4243-8C97-32789367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0CB3-B7BC-47F0-9E18-42A19219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D5578-70A7-4C22-B293-1CB46955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99109-43FA-4436-A481-18486DE8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F3C61A-981D-4A81-9D61-036AECCC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7FF59-2FE1-4F39-B6FA-6709F81D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1CE88-FE1B-487C-8D25-920AB52C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22959-ADAF-4DB3-AC1B-046129D8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2450C-EFCD-4E6A-9C3B-B23C8D6C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21178-224D-41BA-BA9C-802E29F4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540A0-CD28-409D-BAF1-FC90DF0F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2C787-898F-420A-812F-E8B44A3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42EB-03AB-4BCD-9E26-5B85DFD8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F1503-0138-4289-BE9D-373DF545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841E0-B779-4163-9F6D-01438DE1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E6CE0-3DBC-47E5-B657-B2076FEE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70D48-B093-47A4-9A1B-CB51651D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20950-30AD-4516-B6F7-28B0BF6D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5C826-4164-4A89-95EF-2EAAC1D4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77167-F865-49B3-BA0A-A13D2136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CDF90-5E60-4A47-913A-450DAFF1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447CD3-D504-48D0-86CA-AEA1A6E9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91DF13-DE37-4C5E-9284-02845349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B8F-780B-479C-9E48-D8716F54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6BC6-B3F1-4A73-9031-1F77BED8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BFB30-65B7-4128-AF66-5AA2320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E5A9B-03D1-412D-B6C2-FA5CF3C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F0D39-6E76-4CA9-8DD9-6368C902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3DC79-DE14-4064-8616-8156DCA4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D027C-4A8C-470C-8116-7ADA7339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0F006A-979A-4E85-BCD5-A685DB95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43D293-D456-4B35-A26C-B31CA08A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7700AC-00BC-45A2-A48D-70E7D642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B43055-B7C9-4D98-86C2-24870EC9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DFCB61-A6A4-4212-A976-0B74B7E3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F546-A844-4FEF-B24D-75D56213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B54021-6F7B-41A3-BA4F-A6160952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DACA5-5063-4970-9D7E-EFF26028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3A10E8-6FD1-4DE0-9E78-008D4DFB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8AC43-768C-43A6-BCD3-D9D25948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F923C-12CF-46F9-B513-FCE3386B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4C39D5-9FCC-4552-80C9-D4E1198D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9AAF3-A421-4074-B110-E4E2B782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BA20F-40F5-443D-B1FB-619CEA85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EAB899-018E-4263-A42A-ECB93A8D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277583-290D-47F7-8CA8-B04E64A7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CD70-548E-4AE6-A4D7-82C96CF0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D9770D-8FE6-4882-850D-98DA3404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C84C2-9E3B-4C59-9550-0A3B5DA5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6572B2-BFD9-4AAB-B23E-D09EC5D3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15103-7D7E-4752-8095-EB762C03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BD391A-AD30-48C5-A84D-5618AD56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089833-5D48-4153-8BC9-9B06BBB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C765A-5F23-4997-8B9B-1DA11D43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920E1-E8B3-4CC0-BAFD-227090DD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C8A782-FD71-4AFA-9FB6-4C0753C1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279E04-588C-4786-833D-79296C1A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E6A3-F36E-45F2-893C-EB6484D5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5B106D-5E0C-4504-B370-6C1C6891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B0562F-66AF-4E7A-99FC-46EB0FFA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A2696-84C4-4A97-A6E7-9854E0F4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1017B3-B7F3-405D-AE21-C6FAA167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634158-5373-4FD4-ADF1-B7476F97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82B3B-A8A3-436F-8CA5-0C3107C9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4BB4C7-4534-4B80-94DA-024DB829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AE063D-ECDE-49BB-B492-39371259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48D8D6-4539-495E-8725-D21A7C90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48BC6-E04D-4BDF-BBB3-AEFBDE9C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9AC1-B45F-40D8-8D57-8FE28C58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5A583-075B-4377-8BE4-D393DC82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490AA-208A-488F-854E-BB25BA31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7E169F-0DDC-4DD5-8AB0-A3927E88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DB47D-401D-4A9A-9C57-FE03C564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83ED81-E886-4562-B941-7C105A7F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00FB6F-2B0A-4DAD-A747-D6D3B388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EDB5C-9E4C-40DB-9602-DAB73D6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93BDF-60FD-4937-A6E1-539B6CE0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23F5F6-EB0E-4B0C-844E-252E04E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18871-0012-42DC-9818-24A35819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C1A0-4BAF-49DF-A6ED-81564189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16806-A368-4045-8B5C-3B23AB54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F3C8D3-B262-4615-A743-1A1B1EAA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845667-EF0A-4332-A491-3882DAF0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0462-FDDC-436A-85F8-9E866988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C266-5947-415E-A8D4-8352DB52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A187-87B7-4A37-8A9D-3EDC79AE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D658-29EA-4FC0-903F-AE2E5495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87C-C84E-4DDB-A499-1FCDD463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2417D-D9CE-4E47-955D-D0A73AF4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1A0A-D3D5-4549-BE79-208F7FDF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5A335-2A76-496B-AF15-87EDD5C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353E-6523-42B3-B5A0-AF4AFC3A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AC8A-7F40-4076-B112-F41B6373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015D-0B31-4F1C-92B9-4890066E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5FE86-BC32-420A-AF62-D9A5BE14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9D71-B3B0-4216-BCAD-9D81C826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97907-BB0D-43B8-8C9D-5B16C799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985BF-1CD2-49C7-8FA3-26E54652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D73-55DC-400A-B064-0F41BEC2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4B5C-632E-4395-B9BF-D0C20BBD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47C3-C4B2-47B7-8AC9-259E92FC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409E-29E0-413C-AAB3-3F6244EF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87955-4D15-44DC-AA5C-CE1534C5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463E4-9C0E-4E8D-9672-7F92434E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47588-4CD1-40C7-8630-4B6C4394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EE235-6934-48BD-8E2A-B71BC419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F4C6-F618-4DB8-B3C2-4A00FFD4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0C819-FDD0-4E0E-BF40-C008E7BF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800B-5FC8-438B-82AA-6E538126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55F-B388-4101-B415-D8095850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4EEB2-B32A-416F-9432-42D1391D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9838-A576-4994-AAF0-5EF7EDF0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56E42-0DE9-4013-BB9E-2BCD5817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AC0E-65E2-493A-859A-83081782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BB140-2159-4AF8-B798-3DF0E33E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10DC0-3189-480C-82B7-23305A1C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1F389-D586-4A34-BF50-C11578E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C2ADD-9B11-4099-BA6F-75A56779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537DE-A656-4656-ACB7-29F43B2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ECDF4-1AF8-4E21-9B04-C55220B6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B39-107E-4560-B0BC-555C71DD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A0F7E-A98C-42C1-A376-AC7653C6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4E1A6-46C1-4278-89A0-6413243F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7585-9F7B-4BE7-8855-9CF2DAF9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3603E-E0C1-4DAE-A367-36CA6C07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ADEC0-F48F-4387-B844-B4BFAE7D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226B9-8A24-4812-BAAF-CC0E9B54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EF2C0-327B-41C7-BDEF-5311E901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938B4-442F-4158-BAF7-3DBBAF9B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452A4-2954-4DA1-B593-F36715AD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22C91-6056-4FC5-8573-89B4281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1F1-CD7C-4F01-A060-3E3CFDBF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1ACC2-2C62-41CE-86A5-869EDA9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0EA29-34D8-4AD1-AB2D-1331121A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DD6E0-53FA-491A-88C5-C51C30E4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FA39A-9D5A-4F6A-842A-7D64C412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613EF-065D-4FE2-83D9-3DFD7B9B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143A2-2821-4A4A-91C2-CD59163D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9E1BA-80B8-469E-9C84-383A9E0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314A1-4121-4E08-8C53-1368BF3F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7A15B-1C6F-47A7-AD37-B27C9E0D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438CB-43ED-4863-AD1E-2C944832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A27-A10F-4F14-A716-CEF8CE10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0CD22-7879-4BD1-8284-D1B1E6FA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8EDF6-84F6-4622-87F7-D9233125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F65D1-93AB-4503-A606-14FA7C6E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29FB7-79FF-46FC-98AE-F5605F32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A01D8-114B-488C-9C86-CD4932FF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047A7-FAAF-434D-A289-137529CA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08EF6-A02C-487C-A2EF-E138C103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A10F7-FD52-48DE-A0A0-B0BE151E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0FB1E-AC38-438B-9962-597B1F2C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851BD-6221-40AA-B6B1-209DD076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32C-EC58-4106-A281-3FD21DF5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984EE-4F38-4B28-9791-0055A1FC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160F4-5444-4B30-B448-3991D8B1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A5A36-6434-4F5F-AFEF-E354DF09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200BC-D0C2-4218-BFFF-7685460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430DC-50DD-4477-9EBF-4C9BD8D4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05463-8B65-4802-B72B-781D1CAB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406E9-321E-4384-A6CD-B0833C85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E0F6F-7DDA-48F5-86C8-C14CDAE3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15221-E8C1-4FC2-B5B9-C11E31DC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1B47B-8184-4697-B695-43726ACC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2AEC-C20E-4EB1-A4CF-36736FB193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7BF5-4F8D-4A12-A753-8C9BAA53F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DEF7-341A-4028-A190-AF2BDF4D74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5341-E597-4FF6-9657-4085B2DE0B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F348-8271-4BD8-A3E7-4C7E0DBB5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B40B-580B-40A7-80D3-7745BFDD4A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3068-7A31-42A2-9A14-0BCAC6EADB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3A6C-C78F-4367-85D4-6B095DA337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3856-A6C8-40E4-BC0B-6FEC8EBAA2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B123-E4F9-4ACC-BEF4-5C65F24FBC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15ED-75D8-4A81-A4CD-17918EB374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1C3A-EAA3-4F2F-9FAA-26CAA11104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6464-FF01-4CDA-A379-C07482CF44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81A9-1055-4F72-B893-51E68389D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3EC2-C2F4-4E26-9E05-A90038C2BD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56C7-CBEF-4DF8-9388-04B3978C53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AE5E-5993-4118-A2D1-30AD3916F3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1667-5571-48AB-81D5-3617E09C82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12A8-D0F3-4D69-ADF4-FF6C35B350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BE96-2229-439A-9846-52451308B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127B-6692-418E-8D79-FA735006EA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19B8-7E11-4529-B471-B82A7D8E77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8404-7935-4DA1-9401-61221D616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61D4-1FA7-4791-B9AC-2F4599B938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3AF7-53E6-454D-913D-8633A41FE5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B625-98B6-4D80-A0AA-CBA35F1028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104C-F4D0-43D3-9996-D6D8570AAB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E8F0-AFF2-4903-9359-121A52D9D9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EA0C-61B8-4700-AAC1-F3A16DDFD5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53C4-1DDA-4F92-A4A7-E485EDD251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BE6A-8040-4AC1-8BFA-6773E042E8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2A75-906F-45DA-92C5-49A6707D76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1658-C2B8-4112-B956-EC39C538D3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C225-F270-4716-BE98-553A219FA5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1D0D-E4E8-499B-9F86-0E9DC1F7C8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5BA9-E07C-4906-8051-6E627052B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2E7C-7898-437D-ADEF-2A648FCF94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20B5-3BA5-4783-886D-259E34A8C2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F6D1-9CDE-4A3D-8AD4-60D48211FB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14D6-FD3A-4820-B1D4-1BE34DAF18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0373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69633" descr=""/>
          <p:cNvPicPr/>
          <p:nvPr/>
        </p:nvPicPr>
        <p:blipFill>
          <a:blip r:embed="rId1"/>
          <a:stretch/>
        </p:blipFill>
        <p:spPr>
          <a:xfrm>
            <a:off x="1042920" y="1095480"/>
            <a:ext cx="7058160" cy="4667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408720" cy="476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3"/>
          <a:stretch/>
        </p:blipFill>
        <p:spPr>
          <a:xfrm>
            <a:off x="1042920" y="2492280"/>
            <a:ext cx="6408720" cy="476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4"/>
          <a:stretch/>
        </p:blipFill>
        <p:spPr>
          <a:xfrm>
            <a:off x="826920" y="3068640"/>
            <a:ext cx="6409080" cy="7207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5"/>
          <a:stretch/>
        </p:blipFill>
        <p:spPr>
          <a:xfrm>
            <a:off x="826920" y="4005360"/>
            <a:ext cx="7274160" cy="7207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6"/>
          <a:stretch/>
        </p:blipFill>
        <p:spPr>
          <a:xfrm>
            <a:off x="684360" y="4869000"/>
            <a:ext cx="7273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图片 68609" descr=""/>
          <p:cNvPicPr/>
          <p:nvPr/>
        </p:nvPicPr>
        <p:blipFill>
          <a:blip r:embed="rId1"/>
          <a:stretch/>
        </p:blipFill>
        <p:spPr>
          <a:xfrm>
            <a:off x="1509840" y="976320"/>
            <a:ext cx="6124320" cy="49053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6049800" cy="476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6049800" cy="4762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4"/>
          <a:stretch/>
        </p:blipFill>
        <p:spPr>
          <a:xfrm>
            <a:off x="1619280" y="3371760"/>
            <a:ext cx="6049800" cy="4762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5"/>
          <a:stretch/>
        </p:blipFill>
        <p:spPr>
          <a:xfrm>
            <a:off x="1619280" y="3875040"/>
            <a:ext cx="6049800" cy="4762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6"/>
          <a:stretch/>
        </p:blipFill>
        <p:spPr>
          <a:xfrm>
            <a:off x="1547640" y="4394160"/>
            <a:ext cx="6050160" cy="4762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7"/>
          <a:stretch/>
        </p:blipFill>
        <p:spPr>
          <a:xfrm>
            <a:off x="1476360" y="4956120"/>
            <a:ext cx="60498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71440" y="1590840"/>
            <a:ext cx="8601120" cy="3676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511200" y="3112920"/>
            <a:ext cx="8604360" cy="476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8604360" cy="476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541440" y="4149720"/>
            <a:ext cx="5975280" cy="476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6588000" y="4149720"/>
            <a:ext cx="2305080" cy="476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684360" y="4724280"/>
            <a:ext cx="2305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9410" descr=""/>
          <p:cNvPicPr/>
          <p:nvPr/>
        </p:nvPicPr>
        <p:blipFill>
          <a:blip r:embed="rId1"/>
          <a:stretch/>
        </p:blipFill>
        <p:spPr>
          <a:xfrm>
            <a:off x="442800" y="1571760"/>
            <a:ext cx="8258400" cy="3714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468360" y="2506680"/>
            <a:ext cx="6191280" cy="476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281160" y="3068640"/>
            <a:ext cx="4968720" cy="476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5264280" y="3068640"/>
            <a:ext cx="3484440" cy="476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395280" y="3645000"/>
            <a:ext cx="2592360" cy="476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3044880" y="3602160"/>
            <a:ext cx="6099120" cy="476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7"/>
          <a:stretch/>
        </p:blipFill>
        <p:spPr>
          <a:xfrm>
            <a:off x="122400" y="4149720"/>
            <a:ext cx="863280" cy="476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8"/>
          <a:stretch/>
        </p:blipFill>
        <p:spPr>
          <a:xfrm>
            <a:off x="971640" y="4149720"/>
            <a:ext cx="4895640" cy="476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9"/>
          <a:stretch/>
        </p:blipFill>
        <p:spPr>
          <a:xfrm>
            <a:off x="5940360" y="4149720"/>
            <a:ext cx="2879640" cy="476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0"/>
          <a:stretch/>
        </p:blipFill>
        <p:spPr>
          <a:xfrm>
            <a:off x="468360" y="4724280"/>
            <a:ext cx="863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8373" descr=""/>
          <p:cNvPicPr/>
          <p:nvPr/>
        </p:nvPicPr>
        <p:blipFill>
          <a:blip r:embed="rId1"/>
          <a:stretch/>
        </p:blipFill>
        <p:spPr>
          <a:xfrm>
            <a:off x="528480" y="1290600"/>
            <a:ext cx="8087040" cy="42768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5832360" cy="476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395280" y="2722680"/>
            <a:ext cx="5832360" cy="7920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250920" y="3673440"/>
            <a:ext cx="5257800" cy="792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5580000" y="3860640"/>
            <a:ext cx="3168720" cy="476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324000" y="4667400"/>
            <a:ext cx="52578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7352" descr=""/>
          <p:cNvPicPr/>
          <p:nvPr/>
        </p:nvPicPr>
        <p:blipFill>
          <a:blip r:embed="rId1"/>
          <a:stretch/>
        </p:blipFill>
        <p:spPr>
          <a:xfrm>
            <a:off x="419040" y="1871640"/>
            <a:ext cx="8305920" cy="31147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468360" y="2751120"/>
            <a:ext cx="6119640" cy="476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6120000" cy="4759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395280" y="3860640"/>
            <a:ext cx="4537080" cy="476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4932360" y="3860640"/>
            <a:ext cx="396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395280" y="4437000"/>
            <a:ext cx="3960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6324" descr=""/>
          <p:cNvPicPr/>
          <p:nvPr/>
        </p:nvPicPr>
        <p:blipFill>
          <a:blip r:embed="rId1"/>
          <a:stretch/>
        </p:blipFill>
        <p:spPr>
          <a:xfrm>
            <a:off x="476280" y="1019160"/>
            <a:ext cx="8191440" cy="48196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7201080" cy="4759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72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324000" y="3025800"/>
            <a:ext cx="8496000" cy="834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324000" y="4005360"/>
            <a:ext cx="6769080" cy="834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7135920" y="4149720"/>
            <a:ext cx="1757160" cy="476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324000" y="5013360"/>
            <a:ext cx="676908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55300" descr=""/>
          <p:cNvPicPr/>
          <p:nvPr/>
        </p:nvPicPr>
        <p:blipFill>
          <a:blip r:embed="rId1"/>
          <a:stretch/>
        </p:blipFill>
        <p:spPr>
          <a:xfrm>
            <a:off x="428760" y="1486080"/>
            <a:ext cx="8286480" cy="3886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324000" y="2319480"/>
            <a:ext cx="6264000" cy="476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6264360" cy="476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324000" y="3371760"/>
            <a:ext cx="7343640" cy="476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453960" y="3860640"/>
            <a:ext cx="504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5508720" y="3860640"/>
            <a:ext cx="3635280" cy="476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7"/>
          <a:stretch/>
        </p:blipFill>
        <p:spPr>
          <a:xfrm>
            <a:off x="324000" y="4365720"/>
            <a:ext cx="3635280" cy="476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8"/>
          <a:stretch/>
        </p:blipFill>
        <p:spPr>
          <a:xfrm>
            <a:off x="395280" y="4869000"/>
            <a:ext cx="3635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54276" descr=""/>
          <p:cNvPicPr/>
          <p:nvPr/>
        </p:nvPicPr>
        <p:blipFill>
          <a:blip r:embed="rId1"/>
          <a:stretch/>
        </p:blipFill>
        <p:spPr>
          <a:xfrm>
            <a:off x="781200" y="1176480"/>
            <a:ext cx="7581600" cy="4505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611280" y="2147760"/>
            <a:ext cx="6840360" cy="8496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5543640" cy="476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755640" y="3573360"/>
            <a:ext cx="5543640" cy="476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755640" y="4076640"/>
            <a:ext cx="5543640" cy="476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826920" y="4581360"/>
            <a:ext cx="6840720" cy="476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7"/>
          <a:stretch/>
        </p:blipFill>
        <p:spPr>
          <a:xfrm>
            <a:off x="755640" y="5084640"/>
            <a:ext cx="7632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52231" descr=""/>
          <p:cNvPicPr/>
          <p:nvPr/>
        </p:nvPicPr>
        <p:blipFill>
          <a:blip r:embed="rId1"/>
          <a:stretch/>
        </p:blipFill>
        <p:spPr>
          <a:xfrm>
            <a:off x="404640" y="1752480"/>
            <a:ext cx="8334720" cy="3353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395280" y="2752560"/>
            <a:ext cx="8353440" cy="747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380880" y="3573360"/>
            <a:ext cx="3672000" cy="476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4"/>
          <a:stretch/>
        </p:blipFill>
        <p:spPr>
          <a:xfrm>
            <a:off x="4067280" y="3557520"/>
            <a:ext cx="4681440" cy="476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5"/>
          <a:stretch/>
        </p:blipFill>
        <p:spPr>
          <a:xfrm>
            <a:off x="93600" y="4076640"/>
            <a:ext cx="1224000" cy="476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6"/>
          <a:stretch/>
        </p:blipFill>
        <p:spPr>
          <a:xfrm>
            <a:off x="1332000" y="4076640"/>
            <a:ext cx="6408720" cy="476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7"/>
          <a:stretch/>
        </p:blipFill>
        <p:spPr>
          <a:xfrm>
            <a:off x="7783560" y="4076640"/>
            <a:ext cx="1036440" cy="476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8"/>
          <a:stretch/>
        </p:blipFill>
        <p:spPr>
          <a:xfrm>
            <a:off x="236520" y="4581360"/>
            <a:ext cx="3816360" cy="476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9"/>
          <a:stretch/>
        </p:blipFill>
        <p:spPr>
          <a:xfrm>
            <a:off x="4067280" y="4581360"/>
            <a:ext cx="2809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12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